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2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F1A0-620A-4A4B-A520-454D1D8ED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8963-6C02-4EBE-A8CC-8671CCC31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71637C-CB51-46B2-B318-375A06A88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0CD1C2-815C-4EAA-8980-2335BBBC2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760105-4DB0-435F-974B-B43DA310D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722393-88FC-41DA-814A-D67219A4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D5A1C1-0EE6-41F7-B248-5E846435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9292A5-470D-48EC-88FD-95AD3A97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6C457C-4CA3-4208-8624-CD774650F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FB92DC-18E0-401C-9E73-1630C5796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34BD24-A2C9-4ECD-A4B9-0005FD25B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6EE6E9-D8C5-4949-B1DB-305F26ED0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63C1-F94D-4D0B-8D7D-203CDDDF1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2D1FC1-91A7-47E6-85AC-63794403B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F31296-F3AE-4392-8B41-D7C473D88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99792F-0AA3-4817-99F7-770C5CB60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C33641-3E6D-4158-BA5F-554108358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66FD4B-619D-479C-8DF4-6995709BE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BB1BA2-90C1-475E-8E28-AD4AE01F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A8A1CF-7983-45C3-AA7E-516783B6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19BE25-FFE6-46CD-AE6C-15636A05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2A3F3E-1CB6-44E5-B00D-8EFF643FB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AF66DE-21D6-473D-871D-E1E462688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CD76-CDA1-4D38-AA14-F82B6AFFA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58BAA4-FBF2-4C66-AB3E-E7C7FF997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A999DD-ED39-4F78-B7B5-00D7B66DB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0E3A94-9D3D-4EBF-97B6-39897BDC8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007D1F-4EF4-42B7-A76E-917FD8FEE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97C314-5CDD-44C9-AC96-743FBF6D9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6DC33C-9A7C-4106-954C-7360FC2BF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535549-E622-49E6-A5F0-56D898529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1CED08-F505-4F79-8AEF-CB9F5F0C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858D93-478D-4E08-84B8-88B0DF90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FEFE8F-16A9-4C11-B163-9667A239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03967-709E-4DE5-9560-D5833C238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A9168D-2BBD-46E6-B0EF-126AD6BDB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32277D-E5A3-43C6-8443-EA10927BB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B9B156-1F5E-4505-BD5C-A303C7DCD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0F7C83-CC10-4436-8BE9-051EFCFF2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AAF33D-AD9A-4BDE-A64B-543476D34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D49F1D-80D3-48BA-B1B5-BA8CC005C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BA2D69-E5EA-4372-B02B-CDC30A60E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5828BE-5400-4EF8-B7BD-554C7E418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1E9729-214B-4B9C-A190-8389A3576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0103FD-7B5A-483E-95EE-6297DC9D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78FFD-E6AC-460B-A431-CD63FA910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466F9E-C536-44F8-B961-F6C531C9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7D60D4-167F-44EF-83D0-493D16F8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8DDB3C-FA16-4E6E-9EBF-2718FEAB8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2611E0-5023-417D-A036-EF1635EC3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A0AC35-B67B-4B66-A412-BEC248EBE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1D8C6-3124-4730-8063-A8F3AD915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F42C0-EAE0-4886-B11B-778FBFE27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5CDE3-9575-4C93-8710-E48A5AB84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938A4-A88C-486B-B1AC-C5A93DC83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32577-4BDB-4D4A-843C-A54A1D7D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47ED-3484-4078-A6A4-5A5FFF597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99065-9353-4F5F-B48F-95A48B9A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CFB78-7319-4C1C-ADFF-AD1F4D42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70797-B783-403C-A6ED-CB9FF472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02CC9-B44A-4042-94F2-67D165117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D2BB2-D152-4383-99D3-CA4A8302D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702D5-E25E-47D5-836E-FC21B2F91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FFA3D-9DF1-4C7F-B177-C0878BAA6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1B42C-78A0-43FC-BDC4-6EB7EEFF5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0C037-0430-4EA3-B49D-B3AEC1B78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B4688-870E-4ECA-82E7-093988F00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3550-FD31-404F-9DBA-C6C294CE8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0369F-3333-4049-9A08-3BC35036D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1B0CD-FC8A-46AB-8893-34A03E8E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F1854-86BD-4561-9258-722341E8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8B2C7-A11E-4553-9EA8-EC48DD0B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040F9-39FD-404B-B244-6DF389999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FAD17-CE3D-4403-BC25-EC1C745F8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0A4AC-BA4F-4D16-88FD-36BB2FC32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95872-5CEE-4F05-A36B-9CD8A8B1D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C36B7-6DEC-435C-B98E-C4CEFC0FF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D1FD1-B654-48CD-837E-28B96AC9C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A7F0-9557-4E85-A8F0-3783585F5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3A1B5-1D7E-4A07-A088-E8D83E890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5BEFA-C514-4CE6-8FDA-F49440EDB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DDAE1-C269-4513-B6B3-DA512EC6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ACD40-3CD6-40C2-90B7-B0CA6A73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312BD-0D21-40FD-BF3A-08D7868D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F1EBA-A929-42ED-B733-BCE3418F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3AA66-915A-496D-9F1D-3D31C5B65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E8DDB-EEA2-4417-BBA8-6B18656EB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81B60-9587-45D0-A752-B3EB59D8A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93D94-FC52-4B8B-9614-CEED269E7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994C-22A0-4599-9331-352F55D32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25031-DF0C-405B-A47E-79B0AE14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76EB2-D24A-48A3-B810-4E02ACC90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C653B-E3CA-455A-A3B9-8C52CF461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8C0D5-1D8D-4142-A3DC-B0463DA9B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AC8AB-C5B7-4612-A2BE-8729D718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A37B9-BD04-495D-94CA-BD35D658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5DF5E-B101-4739-8E24-39A40116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37B5E-8C9D-4A3F-ADF3-5D8758A8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EE0A5-9BCE-46D8-923A-C7FD40513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B978C-0DAA-4927-9723-6AE3E8D20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9E39-FE5C-4413-8770-DCACB23DA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DE3DB-FA36-49FF-8611-C1CBA85D9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A93061-2DBD-4BE2-89C6-2932EFD0B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91F16-A5C8-471D-98B8-8097E5C7F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10919F-2A90-43BA-A9ED-3CF50081B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E16E0-A272-42CD-AFF5-DFCA22C40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3F983-BFA8-4669-AA0F-956A516A7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DF045-D90F-44DA-BDA8-A0419E0B2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1A9D3-7570-4FEC-9F25-27F28A35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C7075-1189-42DC-9CED-BDBFA4C1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BFCB0-189D-4FBF-8E85-A0CB358A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2579-A194-49A2-B41F-9B27BEE6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5F36D-C324-4B40-B295-1D65E6476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39823-8A72-44DC-9A63-8C1C75348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29A2C-8C28-4C13-93E0-5810CB182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27F803-EFD8-4188-B0CB-88DB0F614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C82B46-06AC-4FA6-BC0F-00B47A815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F7335-3EB6-4168-A172-5D6C73AB9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840D7C-67BA-48BC-A19C-0A78BB420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C77701-0A60-49CB-85B6-B1D61B8F1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36D86-5172-4B9D-858A-CA53408F9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CA5FF-2168-4F63-A08C-DB34F130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F42F-2439-424E-96B2-5DC3B92A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F83444-93C3-4DC6-9F10-2020125E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A08AC-5CF5-47AC-995D-CBCEB67B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56C1B5-99F0-4B77-B5DE-43EEC6310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6B6A5-CA74-4AAA-8F8A-E7D921C79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1B13C-F31D-4D71-81CF-74057C5FB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7F8213-F93D-4208-A201-FA1EE67B6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652624-5AE4-4A49-BC1B-A892E0368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98AF4A-EE3E-436F-96F2-562127881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BC83E8-C746-4FE0-B21C-AE25B735D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22916C-D2D9-4A02-BD1C-C6ACB43B1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39B6-FD6C-46DA-989B-0A83DAC1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D87B08-C4D8-4AAD-8007-417A007AB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5D3D4C-35F4-43FD-BA4F-FF9F954B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00ABFE-8BE9-48EE-9D4D-641C9402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06427F-3C55-4DA9-923F-D658A1E7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5112B3-2B30-4D84-8EBE-ECD72FD0B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B2D06A-63AA-4AB7-81CE-989029D27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71D259-FC59-45B9-AF71-613019CEC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F90AA8-3310-4B24-AB3C-513768157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B9B6DF-CD1D-40EC-A9EC-274C1017B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5439A9-885B-426B-8C56-D499A026B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01CE1-DECB-4047-AD8B-3ED1CFA7CB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7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28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061E7-0306-4CF2-87B7-228E5A6D45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D275C-3837-4BA8-A286-313D0DE1EAC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95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4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705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706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9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12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13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21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22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4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725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726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27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728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36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C8C10-E69E-4C7A-8060-28E5BB9FF85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779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82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783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88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789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92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793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98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98D50-F3AC-4FA0-8313-D1C2745BD6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21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21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24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E60D6-E37E-41C9-AAD0-9DC9B30E07F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28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29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31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4508-2DFA-477F-B0B7-346B516B6A2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366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308D9-92C6-47E6-94DD-7AA5E498A81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2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423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EC910-BDF9-4D0A-8A94-EC0C18E173C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7317A-EF54-4620-8664-FADCA729055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43348-0DF3-4D42-A2D2-368A7B756E9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28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68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CF92E-D2DC-472E-8D77-71F7086D09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2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800080"/>
                </a:solidFill>
                <a:latin typeface="Matura MT Script Capitals"/>
              </a:rPr>
              <a:t>Main holidays in</a:t>
            </a:r>
            <a:br>
              <a:rPr sz="6600"/>
            </a:br>
            <a:r>
              <a:rPr b="0" lang="en-US" sz="6600" spc="-1" strike="noStrike">
                <a:solidFill>
                  <a:srgbClr val="800080"/>
                </a:solidFill>
                <a:latin typeface="Matura MT Script Capitals"/>
              </a:rPr>
              <a:t>Ukraine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"/>
          <p:cNvSpPr txBox="1"/>
          <p:nvPr/>
        </p:nvSpPr>
        <p:spPr>
          <a:xfrm>
            <a:off x="304920" y="6172200"/>
            <a:ext cx="8229600" cy="76320"/>
          </a:xfrm>
          <a:prstGeom prst="rect">
            <a:avLst/>
          </a:prstGeom>
          <a:noFill/>
          <a:ln w="0">
            <a:noFill/>
          </a:ln>
        </p:spPr>
        <p:txBody>
          <a:bodyPr lIns="182880" tIns="30600" bIns="-15120" anchor="t">
            <a:normAutofit/>
          </a:bodyPr>
          <a:p>
            <a:pPr marL="264960" indent="-264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38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839" name="" descr=""/>
          <p:cNvPicPr/>
          <p:nvPr/>
        </p:nvPicPr>
        <p:blipFill>
          <a:blip r:embed="rId2"/>
          <a:stretch/>
        </p:blipFill>
        <p:spPr>
          <a:xfrm>
            <a:off x="609480" y="3429000"/>
            <a:ext cx="2438640" cy="2057400"/>
          </a:xfrm>
          <a:prstGeom prst="rect">
            <a:avLst/>
          </a:prstGeom>
          <a:ln w="0">
            <a:noFill/>
          </a:ln>
        </p:spPr>
      </p:pic>
      <p:pic>
        <p:nvPicPr>
          <p:cNvPr id="840" name="" descr=""/>
          <p:cNvPicPr/>
          <p:nvPr/>
        </p:nvPicPr>
        <p:blipFill>
          <a:blip r:embed="rId3"/>
          <a:stretch/>
        </p:blipFill>
        <p:spPr>
          <a:xfrm>
            <a:off x="3276720" y="22096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841" name="" descr=""/>
          <p:cNvPicPr/>
          <p:nvPr/>
        </p:nvPicPr>
        <p:blipFill>
          <a:blip r:embed="rId4"/>
          <a:stretch/>
        </p:blipFill>
        <p:spPr>
          <a:xfrm>
            <a:off x="6300720" y="1413000"/>
            <a:ext cx="2590920" cy="1904760"/>
          </a:xfrm>
          <a:prstGeom prst="rect">
            <a:avLst/>
          </a:prstGeom>
          <a:ln w="0">
            <a:noFill/>
          </a:ln>
        </p:spPr>
      </p:pic>
      <p:pic>
        <p:nvPicPr>
          <p:cNvPr id="842" name="" descr=""/>
          <p:cNvPicPr/>
          <p:nvPr/>
        </p:nvPicPr>
        <p:blipFill>
          <a:blip r:embed="rId5"/>
          <a:stretch/>
        </p:blipFill>
        <p:spPr>
          <a:xfrm>
            <a:off x="3276720" y="4267080"/>
            <a:ext cx="2600280" cy="2038320"/>
          </a:xfrm>
          <a:prstGeom prst="rect">
            <a:avLst/>
          </a:prstGeom>
          <a:ln w="0">
            <a:noFill/>
          </a:ln>
        </p:spPr>
      </p:pic>
      <p:pic>
        <p:nvPicPr>
          <p:cNvPr id="843" name="" descr=""/>
          <p:cNvPicPr/>
          <p:nvPr/>
        </p:nvPicPr>
        <p:blipFill>
          <a:blip r:embed="rId6"/>
          <a:stretch/>
        </p:blipFill>
        <p:spPr>
          <a:xfrm>
            <a:off x="6019920" y="3657600"/>
            <a:ext cx="2666880" cy="19051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                 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inter holidays</a:t>
            </a: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457200" y="5029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1000"/>
          </a:bodyPr>
          <a:p>
            <a:pPr marL="240840" indent="-240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What kind of holiday is this?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40840" indent="-240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When do people celebrate it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40840" indent="-240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What is the symbol of this holiday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40840" indent="-240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How do people celebrate it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80" name=""/>
          <p:cNvGrpSpPr/>
          <p:nvPr/>
        </p:nvGrpSpPr>
        <p:grpSpPr>
          <a:xfrm>
            <a:off x="3395520" y="2457360"/>
            <a:ext cx="2352960" cy="1943280"/>
            <a:chOff x="3395520" y="2457360"/>
            <a:chExt cx="2352960" cy="1943280"/>
          </a:xfrm>
        </p:grpSpPr>
        <p:sp>
          <p:nvSpPr>
            <p:cNvPr id="881" name=""/>
            <p:cNvSpPr txBox="1"/>
            <p:nvPr/>
          </p:nvSpPr>
          <p:spPr>
            <a:xfrm>
              <a:off x="3395520" y="2457360"/>
              <a:ext cx="2352960" cy="194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882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3200400" cy="2133720"/>
          </a:xfrm>
          <a:prstGeom prst="rect">
            <a:avLst/>
          </a:prstGeom>
          <a:ln w="0">
            <a:noFill/>
          </a:ln>
        </p:spPr>
      </p:pic>
      <p:pic>
        <p:nvPicPr>
          <p:cNvPr id="883" name="" descr=""/>
          <p:cNvPicPr/>
          <p:nvPr/>
        </p:nvPicPr>
        <p:blipFill>
          <a:blip r:embed="rId2"/>
          <a:stretch/>
        </p:blipFill>
        <p:spPr>
          <a:xfrm>
            <a:off x="5867280" y="1676520"/>
            <a:ext cx="2667240" cy="1981080"/>
          </a:xfrm>
          <a:prstGeom prst="rect">
            <a:avLst/>
          </a:prstGeom>
          <a:ln w="0">
            <a:noFill/>
          </a:ln>
        </p:spPr>
      </p:pic>
      <p:pic>
        <p:nvPicPr>
          <p:cNvPr id="884" name="" descr=""/>
          <p:cNvPicPr/>
          <p:nvPr/>
        </p:nvPicPr>
        <p:blipFill>
          <a:blip r:embed="rId3"/>
          <a:stretch/>
        </p:blipFill>
        <p:spPr>
          <a:xfrm>
            <a:off x="3200400" y="2895480"/>
            <a:ext cx="3124080" cy="2057400"/>
          </a:xfrm>
          <a:prstGeom prst="rect">
            <a:avLst/>
          </a:prstGeom>
          <a:ln w="0">
            <a:noFill/>
          </a:ln>
        </p:spPr>
      </p:pic>
      <p:grpSp>
        <p:nvGrpSpPr>
          <p:cNvPr id="885" name=""/>
          <p:cNvGrpSpPr/>
          <p:nvPr/>
        </p:nvGrpSpPr>
        <p:grpSpPr>
          <a:xfrm>
            <a:off x="1905120" y="609480"/>
            <a:ext cx="1847520" cy="1081080"/>
            <a:chOff x="1905120" y="609480"/>
            <a:chExt cx="1847520" cy="1081080"/>
          </a:xfrm>
        </p:grpSpPr>
        <p:sp>
          <p:nvSpPr>
            <p:cNvPr id="886" name=""/>
            <p:cNvSpPr/>
            <p:nvPr/>
          </p:nvSpPr>
          <p:spPr>
            <a:xfrm>
              <a:off x="1905120" y="609480"/>
              <a:ext cx="1728720" cy="1081080"/>
            </a:xfrm>
            <a:prstGeom prst="cloudCallout">
              <a:avLst>
                <a:gd name="adj1" fmla="val -111250"/>
                <a:gd name="adj2" fmla="val 4177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87" name="" descr=""/>
            <p:cNvPicPr/>
            <p:nvPr/>
          </p:nvPicPr>
          <p:blipFill>
            <a:blip r:embed="rId4"/>
            <a:stretch/>
          </p:blipFill>
          <p:spPr>
            <a:xfrm>
              <a:off x="1905120" y="753840"/>
              <a:ext cx="1847520" cy="7048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heel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8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8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6840" y="447840"/>
            <a:ext cx="80773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pring holidays</a:t>
            </a:r>
            <a:r>
              <a:rPr b="0" lang="uk-UA" sz="44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457200" y="5029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1000"/>
          </a:bodyPr>
          <a:p>
            <a:pPr marL="240840" indent="-240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What kind of holiday is this?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240840" indent="-240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When do people celebrate it?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240840" indent="-240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Who do people visit on this day?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240840" indent="-240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Why do people do this?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890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2819160" cy="1981080"/>
          </a:xfrm>
          <a:prstGeom prst="rect">
            <a:avLst/>
          </a:prstGeom>
          <a:ln w="0">
            <a:noFill/>
          </a:ln>
        </p:spPr>
      </p:pic>
      <p:pic>
        <p:nvPicPr>
          <p:cNvPr id="891" name="" descr=""/>
          <p:cNvPicPr/>
          <p:nvPr/>
        </p:nvPicPr>
        <p:blipFill>
          <a:blip r:embed="rId2"/>
          <a:stretch/>
        </p:blipFill>
        <p:spPr>
          <a:xfrm>
            <a:off x="2819520" y="3352680"/>
            <a:ext cx="2819160" cy="1828800"/>
          </a:xfrm>
          <a:prstGeom prst="rect">
            <a:avLst/>
          </a:prstGeom>
          <a:ln w="0">
            <a:noFill/>
          </a:ln>
        </p:spPr>
      </p:pic>
      <p:pic>
        <p:nvPicPr>
          <p:cNvPr id="892" name="" descr=""/>
          <p:cNvPicPr/>
          <p:nvPr/>
        </p:nvPicPr>
        <p:blipFill>
          <a:blip r:embed="rId3"/>
          <a:stretch/>
        </p:blipFill>
        <p:spPr>
          <a:xfrm>
            <a:off x="5867280" y="1600200"/>
            <a:ext cx="2333880" cy="32767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8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pring holidays</a:t>
            </a:r>
            <a:r>
              <a:rPr b="0" lang="uk-UA" sz="44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4" name=""/>
          <p:cNvSpPr txBox="1"/>
          <p:nvPr/>
        </p:nvSpPr>
        <p:spPr>
          <a:xfrm>
            <a:off x="457200" y="5029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1000"/>
          </a:bodyPr>
          <a:p>
            <a:pPr marL="240840" indent="-240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What kind of holiday is this?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240840" indent="-240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When do people celebrate it?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240840" indent="-240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What do people wear on this day?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240840" indent="-240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What do people do on this day?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895" name="" descr=""/>
          <p:cNvPicPr/>
          <p:nvPr/>
        </p:nvPicPr>
        <p:blipFill>
          <a:blip r:embed="rId1"/>
          <a:stretch/>
        </p:blipFill>
        <p:spPr>
          <a:xfrm>
            <a:off x="4572000" y="2438280"/>
            <a:ext cx="3657600" cy="2533680"/>
          </a:xfrm>
          <a:prstGeom prst="rect">
            <a:avLst/>
          </a:prstGeom>
          <a:ln w="0">
            <a:noFill/>
          </a:ln>
        </p:spPr>
      </p:pic>
      <p:pic>
        <p:nvPicPr>
          <p:cNvPr id="896" name="" descr=""/>
          <p:cNvPicPr/>
          <p:nvPr/>
        </p:nvPicPr>
        <p:blipFill>
          <a:blip r:embed="rId2"/>
          <a:stretch/>
        </p:blipFill>
        <p:spPr>
          <a:xfrm>
            <a:off x="838080" y="1905120"/>
            <a:ext cx="3276720" cy="2286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8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8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460080"/>
            <a:ext cx="822960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pring holidays</a:t>
            </a:r>
            <a:r>
              <a:rPr b="0" lang="uk-UA" sz="44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457200" y="5029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1000"/>
          </a:bodyPr>
          <a:p>
            <a:pPr marL="240840" indent="-240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What kind of holiday is this?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240840" indent="-240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When do people celebrate it?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240840" indent="-240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What do people go on this day?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240840" indent="-240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What do people eat on this day?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240840" indent="-240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899" name="" descr=""/>
          <p:cNvPicPr/>
          <p:nvPr/>
        </p:nvPicPr>
        <p:blipFill>
          <a:blip r:embed="rId1"/>
          <a:stretch/>
        </p:blipFill>
        <p:spPr>
          <a:xfrm>
            <a:off x="6172200" y="1828800"/>
            <a:ext cx="2362320" cy="2343240"/>
          </a:xfrm>
          <a:prstGeom prst="rect">
            <a:avLst/>
          </a:prstGeom>
          <a:ln w="0">
            <a:noFill/>
          </a:ln>
        </p:spPr>
      </p:pic>
      <p:pic>
        <p:nvPicPr>
          <p:cNvPr id="900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2438640" cy="2143080"/>
          </a:xfrm>
          <a:prstGeom prst="rect">
            <a:avLst/>
          </a:prstGeom>
          <a:ln w="0">
            <a:noFill/>
          </a:ln>
        </p:spPr>
      </p:pic>
      <p:pic>
        <p:nvPicPr>
          <p:cNvPr id="901" name="" descr=""/>
          <p:cNvPicPr/>
          <p:nvPr/>
        </p:nvPicPr>
        <p:blipFill>
          <a:blip r:embed="rId3"/>
          <a:stretch/>
        </p:blipFill>
        <p:spPr>
          <a:xfrm>
            <a:off x="3048120" y="2971800"/>
            <a:ext cx="3004920" cy="21477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8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8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8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8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Summer holidays</a:t>
            </a:r>
            <a:r>
              <a:rPr b="0" lang="uk-UA" sz="4400" spc="-1" strike="noStrike">
                <a:solidFill>
                  <a:srgbClr val="999900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457200" y="47239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Verdana"/>
              </a:rPr>
              <a:t>What kind of holiday is this?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Verdana"/>
              </a:rPr>
              <a:t>When do people celebrate it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Verdana"/>
              </a:rPr>
              <a:t>Who do people congratulate on this day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Verdana"/>
              </a:rPr>
              <a:t>What do people do on this day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4" name="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3124080" cy="2438640"/>
          </a:xfrm>
          <a:prstGeom prst="rect">
            <a:avLst/>
          </a:prstGeom>
          <a:ln w="0">
            <a:noFill/>
          </a:ln>
        </p:spPr>
      </p:pic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4495680" y="1981080"/>
            <a:ext cx="3695760" cy="24670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9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9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9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46008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Autumn holidays</a:t>
            </a:r>
            <a:r>
              <a:rPr b="1" lang="uk-UA" sz="44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07" name=""/>
          <p:cNvSpPr txBox="1"/>
          <p:nvPr/>
        </p:nvSpPr>
        <p:spPr>
          <a:xfrm>
            <a:off x="457200" y="5029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1000"/>
          </a:bodyPr>
          <a:p>
            <a:pPr marL="240840" indent="-240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What kind of holiday is this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40840" indent="-240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When do people celebrate it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40840" indent="-240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Where do people go on this day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40840" indent="-240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What do people do on this day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40840" indent="-240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8" name="" descr=""/>
          <p:cNvPicPr/>
          <p:nvPr/>
        </p:nvPicPr>
        <p:blipFill>
          <a:blip r:embed="rId1"/>
          <a:stretch/>
        </p:blipFill>
        <p:spPr>
          <a:xfrm>
            <a:off x="1600200" y="3200400"/>
            <a:ext cx="3124080" cy="1947960"/>
          </a:xfrm>
          <a:prstGeom prst="rect">
            <a:avLst/>
          </a:prstGeom>
          <a:ln w="0">
            <a:noFill/>
          </a:ln>
        </p:spPr>
      </p:pic>
      <p:pic>
        <p:nvPicPr>
          <p:cNvPr id="909" name="" descr=""/>
          <p:cNvPicPr/>
          <p:nvPr/>
        </p:nvPicPr>
        <p:blipFill>
          <a:blip r:embed="rId2"/>
          <a:stretch/>
        </p:blipFill>
        <p:spPr>
          <a:xfrm>
            <a:off x="5334120" y="1447920"/>
            <a:ext cx="2286000" cy="335268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3"/>
          <a:stretch/>
        </p:blipFill>
        <p:spPr>
          <a:xfrm>
            <a:off x="1600200" y="1219320"/>
            <a:ext cx="3129120" cy="18669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9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9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9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46008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Autumn holidays</a:t>
            </a:r>
            <a:r>
              <a:rPr b="1" lang="uk-UA" sz="44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12" name=""/>
          <p:cNvSpPr txBox="1"/>
          <p:nvPr/>
        </p:nvSpPr>
        <p:spPr>
          <a:xfrm>
            <a:off x="457200" y="5181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79000"/>
          </a:bodyPr>
          <a:p>
            <a:pPr marL="209160" indent="-2091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What kind of holiday is this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09160" indent="-2091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When do people celebrate it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09160" indent="-2091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What is the symbol of this day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09160" indent="-2091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What do people do on this day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09160" indent="-2091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3" name="" descr=""/>
          <p:cNvPicPr/>
          <p:nvPr/>
        </p:nvPicPr>
        <p:blipFill>
          <a:blip r:embed="rId1"/>
          <a:stretch/>
        </p:blipFill>
        <p:spPr>
          <a:xfrm>
            <a:off x="3995640" y="3141720"/>
            <a:ext cx="2924280" cy="1957320"/>
          </a:xfrm>
          <a:prstGeom prst="rect">
            <a:avLst/>
          </a:prstGeom>
          <a:ln w="0">
            <a:noFill/>
          </a:ln>
        </p:spPr>
      </p:pic>
      <p:pic>
        <p:nvPicPr>
          <p:cNvPr id="914" name="" descr=""/>
          <p:cNvPicPr/>
          <p:nvPr/>
        </p:nvPicPr>
        <p:blipFill>
          <a:blip r:embed="rId2"/>
          <a:stretch/>
        </p:blipFill>
        <p:spPr>
          <a:xfrm>
            <a:off x="1066680" y="1219320"/>
            <a:ext cx="2619360" cy="3809880"/>
          </a:xfrm>
          <a:prstGeom prst="rect">
            <a:avLst/>
          </a:prstGeom>
          <a:ln w="0">
            <a:noFill/>
          </a:ln>
        </p:spPr>
      </p:pic>
      <p:pic>
        <p:nvPicPr>
          <p:cNvPr id="915" name="" descr=""/>
          <p:cNvPicPr/>
          <p:nvPr/>
        </p:nvPicPr>
        <p:blipFill>
          <a:blip r:embed="rId3"/>
          <a:stretch/>
        </p:blipFill>
        <p:spPr>
          <a:xfrm>
            <a:off x="5029200" y="1219320"/>
            <a:ext cx="3057480" cy="19810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9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a pumpkin                          "Trick or Treat"                   a broomstick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an apple                               a ghost                                 Halloween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)  A British festival on the31st of October is___________________________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)  The thing witches fly on is _____________________________________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) A big orange vegetable which is made into a funny lantern is ______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) A white figure that says, "Ooooooh!" is __________________________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)  A small red or green fruit which is in a big bowl of water is ____________________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)  An American Halloween game where children get sweets is _____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Make a presentation of your favourite holiday.  The following ideas will help you: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the parts of the sente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539640" y="2352600"/>
            <a:ext cx="7777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003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 name is ______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003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live in __________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003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 favourite holiday is _________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003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is on the ______________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003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 always have a _______on this da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003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 prepare beforehand for this holiday. I  __________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003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this day I  _______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003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love this holiday because it is ______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953040" cy="34765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1374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800080"/>
                </a:solidFill>
                <a:latin typeface="Matura MT Script Capitals"/>
              </a:rPr>
              <a:t>Do you like holidays ?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915920"/>
            <a:ext cx="7696080" cy="35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larendon Bl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larendon Blk BT"/>
              </a:rPr>
              <a:t>Personally quiz</a:t>
            </a:r>
            <a:r>
              <a:rPr b="1" lang="uk-UA" sz="2400" spc="-1" strike="noStrike">
                <a:solidFill>
                  <a:srgbClr val="0000ff"/>
                </a:solidFill>
                <a:latin typeface="Clarendon Blk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1.  </a:t>
            </a:r>
            <a:r>
              <a:rPr b="0" lang="en-US" sz="1200" spc="-1" strike="noStrike">
                <a:solidFill>
                  <a:srgbClr val="0000ff"/>
                </a:solidFill>
                <a:latin typeface="Comic Sans MS"/>
              </a:rPr>
              <a:t>Do you like partie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) Yes, they are fantastic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) They are OK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) No, I don't like the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Comic Sans MS"/>
              </a:rPr>
              <a:t>2. When you go to a party, who do you talk to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) Different peopl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) One or two friend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) Nobod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Comic Sans MS"/>
              </a:rPr>
              <a:t>3. When the music starts, do you dance?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) Yes, with different peopl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) Yes, with a frien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) No, I sit dow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Comic Sans MS"/>
              </a:rPr>
              <a:t>4. When people play party games, what do you do?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) I play the gam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) I watch the gam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) I go hom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Add up the number of times you score a, </a:t>
            </a:r>
            <a:r>
              <a:rPr b="1" i="1" lang="en-US" sz="3200" spc="-1" strike="noStrike">
                <a:solidFill>
                  <a:srgbClr val="0000ff"/>
                </a:solidFill>
                <a:latin typeface="Comic Sans MS"/>
              </a:rPr>
              <a:t>b 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or c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69608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f you get mostl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– you love parties. You are a real party person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B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– you quite like parties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– you don’t like parties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Matura MT Script Capitals"/>
              </a:rPr>
              <a:t>Main holidays inUkrain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9" name=""/>
          <p:cNvSpPr txBox="1"/>
          <p:nvPr/>
        </p:nvSpPr>
        <p:spPr>
          <a:xfrm>
            <a:off x="304920" y="6172200"/>
            <a:ext cx="8229600" cy="76320"/>
          </a:xfrm>
          <a:prstGeom prst="rect">
            <a:avLst/>
          </a:prstGeom>
          <a:noFill/>
          <a:ln w="0">
            <a:noFill/>
          </a:ln>
        </p:spPr>
        <p:txBody>
          <a:bodyPr lIns="182880" tIns="30600" bIns="-15120" anchor="t">
            <a:normAutofit/>
          </a:bodyPr>
          <a:p>
            <a:pPr marL="264960" indent="-264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50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851" name="" descr=""/>
          <p:cNvPicPr/>
          <p:nvPr/>
        </p:nvPicPr>
        <p:blipFill>
          <a:blip r:embed="rId2"/>
          <a:stretch/>
        </p:blipFill>
        <p:spPr>
          <a:xfrm>
            <a:off x="609480" y="3429000"/>
            <a:ext cx="2438640" cy="2057400"/>
          </a:xfrm>
          <a:prstGeom prst="rect">
            <a:avLst/>
          </a:prstGeom>
          <a:ln w="0">
            <a:noFill/>
          </a:ln>
        </p:spPr>
      </p:pic>
      <p:pic>
        <p:nvPicPr>
          <p:cNvPr id="852" name="" descr=""/>
          <p:cNvPicPr/>
          <p:nvPr/>
        </p:nvPicPr>
        <p:blipFill>
          <a:blip r:embed="rId3"/>
          <a:stretch/>
        </p:blipFill>
        <p:spPr>
          <a:xfrm>
            <a:off x="3348000" y="1557360"/>
            <a:ext cx="2590920" cy="1981080"/>
          </a:xfrm>
          <a:prstGeom prst="rect">
            <a:avLst/>
          </a:prstGeom>
          <a:ln w="0">
            <a:noFill/>
          </a:ln>
        </p:spPr>
      </p:pic>
      <p:pic>
        <p:nvPicPr>
          <p:cNvPr id="853" name="" descr=""/>
          <p:cNvPicPr/>
          <p:nvPr/>
        </p:nvPicPr>
        <p:blipFill>
          <a:blip r:embed="rId4"/>
          <a:stretch/>
        </p:blipFill>
        <p:spPr>
          <a:xfrm>
            <a:off x="6300720" y="1413000"/>
            <a:ext cx="2590920" cy="1904760"/>
          </a:xfrm>
          <a:prstGeom prst="rect">
            <a:avLst/>
          </a:prstGeom>
          <a:ln w="0">
            <a:noFill/>
          </a:ln>
        </p:spPr>
      </p:pic>
      <p:pic>
        <p:nvPicPr>
          <p:cNvPr id="854" name="" descr=""/>
          <p:cNvPicPr/>
          <p:nvPr/>
        </p:nvPicPr>
        <p:blipFill>
          <a:blip r:embed="rId5"/>
          <a:stretch/>
        </p:blipFill>
        <p:spPr>
          <a:xfrm>
            <a:off x="3276720" y="3789360"/>
            <a:ext cx="2600280" cy="2038320"/>
          </a:xfrm>
          <a:prstGeom prst="rect">
            <a:avLst/>
          </a:prstGeom>
          <a:ln w="0">
            <a:noFill/>
          </a:ln>
        </p:spPr>
      </p:pic>
      <p:pic>
        <p:nvPicPr>
          <p:cNvPr id="855" name="" descr=""/>
          <p:cNvPicPr/>
          <p:nvPr/>
        </p:nvPicPr>
        <p:blipFill>
          <a:blip r:embed="rId6"/>
          <a:stretch/>
        </p:blipFill>
        <p:spPr>
          <a:xfrm>
            <a:off x="6019920" y="3657600"/>
            <a:ext cx="2666880" cy="19051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8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BATAVIA"/>
                <a:ea typeface="BATAVIA"/>
              </a:rPr>
              <a:t>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64040" indent="-46404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 the day when Ukrainian children begin going to school after summer holiday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4040" indent="-46404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 the day when men give flowers and presents to wom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4040" indent="-46404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  the day when we decorate fir-trees and pine-tre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4040" indent="-46404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 the day when we paint eggs and bless food in the chur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4040" indent="-46404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 the day when we congratulate our vetera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4040" indent="-46404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 the day when pupils congratulate their teac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4040" indent="-46404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 the day when we celebrate the independence of our count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4040" indent="-46404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 the day when we celebrate the birth of Chri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4040" indent="-46404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 the day when we give presents and send cards to people we lo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comic"/>
              </a:rPr>
              <a:t>Match the dates and the holidays.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859" name=""/>
          <p:cNvGraphicFramePr/>
          <p:nvPr/>
        </p:nvGraphicFramePr>
        <p:xfrm>
          <a:off x="468360" y="1268280"/>
          <a:ext cx="8229600" cy="5046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0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ristma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as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. Valentine’s D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men’s D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 Year’s D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y of Independence of Ukrai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acher’s D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y of Knowled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ctory D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 the 9th of M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 March or Apri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 the 24th of Augu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 the 1st Sunday of Octo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 the 1st of January On the 1st of Septe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 the 8th of Mar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 the 7th of Janua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 the 14th of Februa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800080"/>
                </a:solidFill>
                <a:latin typeface="Matura MT Script Capitals"/>
              </a:rPr>
              <a:t>Main holidays in Great</a:t>
            </a:r>
            <a:r>
              <a:rPr b="0" lang="ru-RU" sz="6600" spc="-1" strike="noStrike">
                <a:solidFill>
                  <a:srgbClr val="800080"/>
                </a:solidFill>
                <a:latin typeface="Matura MT Script Capitals"/>
              </a:rPr>
              <a:t> </a:t>
            </a:r>
            <a:r>
              <a:rPr b="0" lang="en-US" sz="6600" spc="-1" strike="noStrike">
                <a:solidFill>
                  <a:srgbClr val="800080"/>
                </a:solidFill>
                <a:latin typeface="Matura MT Script Capitals"/>
              </a:rPr>
              <a:t>Britain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304920" y="6172200"/>
            <a:ext cx="8229600" cy="76320"/>
          </a:xfrm>
          <a:prstGeom prst="rect">
            <a:avLst/>
          </a:prstGeom>
          <a:noFill/>
          <a:ln w="0">
            <a:noFill/>
          </a:ln>
        </p:spPr>
        <p:txBody>
          <a:bodyPr lIns="182880" tIns="30600" bIns="-15120" anchor="t">
            <a:normAutofit/>
          </a:bodyPr>
          <a:p>
            <a:pPr marL="264960" indent="-264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62" name="" descr=""/>
          <p:cNvPicPr/>
          <p:nvPr/>
        </p:nvPicPr>
        <p:blipFill>
          <a:blip r:embed="rId1"/>
          <a:stretch/>
        </p:blipFill>
        <p:spPr>
          <a:xfrm>
            <a:off x="6095880" y="1981080"/>
            <a:ext cx="2495520" cy="2343240"/>
          </a:xfrm>
          <a:prstGeom prst="rect">
            <a:avLst/>
          </a:prstGeom>
          <a:ln w="0">
            <a:noFill/>
          </a:ln>
        </p:spPr>
      </p:pic>
      <p:pic>
        <p:nvPicPr>
          <p:cNvPr id="863" name="" descr=""/>
          <p:cNvPicPr/>
          <p:nvPr/>
        </p:nvPicPr>
        <p:blipFill>
          <a:blip r:embed="rId2"/>
          <a:stretch/>
        </p:blipFill>
        <p:spPr>
          <a:xfrm>
            <a:off x="4419720" y="3886200"/>
            <a:ext cx="2209680" cy="1752480"/>
          </a:xfrm>
          <a:prstGeom prst="rect">
            <a:avLst/>
          </a:prstGeom>
          <a:ln w="0">
            <a:noFill/>
          </a:ln>
        </p:spPr>
      </p:pic>
      <p:pic>
        <p:nvPicPr>
          <p:cNvPr id="864" name="" descr=""/>
          <p:cNvPicPr/>
          <p:nvPr/>
        </p:nvPicPr>
        <p:blipFill>
          <a:blip r:embed="rId3"/>
          <a:stretch/>
        </p:blipFill>
        <p:spPr>
          <a:xfrm>
            <a:off x="2057400" y="3886200"/>
            <a:ext cx="1871640" cy="1981080"/>
          </a:xfrm>
          <a:prstGeom prst="rect">
            <a:avLst/>
          </a:prstGeom>
          <a:ln w="0">
            <a:noFill/>
          </a:ln>
        </p:spPr>
      </p:pic>
      <p:pic>
        <p:nvPicPr>
          <p:cNvPr id="865" name="" descr=""/>
          <p:cNvPicPr/>
          <p:nvPr/>
        </p:nvPicPr>
        <p:blipFill>
          <a:blip r:embed="rId4"/>
          <a:stretch/>
        </p:blipFill>
        <p:spPr>
          <a:xfrm>
            <a:off x="609480" y="1981080"/>
            <a:ext cx="2590920" cy="2033640"/>
          </a:xfrm>
          <a:prstGeom prst="rect">
            <a:avLst/>
          </a:prstGeom>
          <a:ln w="0">
            <a:noFill/>
          </a:ln>
        </p:spPr>
      </p:pic>
      <p:pic>
        <p:nvPicPr>
          <p:cNvPr id="866" name="" descr=""/>
          <p:cNvPicPr/>
          <p:nvPr/>
        </p:nvPicPr>
        <p:blipFill>
          <a:blip r:embed="rId5"/>
          <a:stretch/>
        </p:blipFill>
        <p:spPr>
          <a:xfrm>
            <a:off x="3352680" y="2209680"/>
            <a:ext cx="2590920" cy="16002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46044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inter holidays</a:t>
            </a: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457200" y="5029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1000"/>
          </a:bodyPr>
          <a:p>
            <a:pPr marL="240840" indent="-240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What kind of holiday is thi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0840" indent="-240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When do people celebrate i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0840" indent="-240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How do people prepare for this holida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0840" indent="-240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What is the main dish of this da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0840" indent="-240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9" name="" descr=""/>
          <p:cNvPicPr/>
          <p:nvPr/>
        </p:nvPicPr>
        <p:blipFill>
          <a:blip r:embed="rId1"/>
          <a:stretch/>
        </p:blipFill>
        <p:spPr>
          <a:xfrm>
            <a:off x="5638680" y="3048120"/>
            <a:ext cx="2976840" cy="1828800"/>
          </a:xfrm>
          <a:prstGeom prst="rect">
            <a:avLst/>
          </a:prstGeom>
          <a:ln w="0">
            <a:noFill/>
          </a:ln>
        </p:spPr>
      </p:pic>
      <p:pic>
        <p:nvPicPr>
          <p:cNvPr id="870" name="" descr=""/>
          <p:cNvPicPr/>
          <p:nvPr/>
        </p:nvPicPr>
        <p:blipFill>
          <a:blip r:embed="rId2"/>
          <a:stretch/>
        </p:blipFill>
        <p:spPr>
          <a:xfrm>
            <a:off x="3962520" y="1371600"/>
            <a:ext cx="2819160" cy="1857240"/>
          </a:xfrm>
          <a:prstGeom prst="rect">
            <a:avLst/>
          </a:prstGeom>
          <a:ln w="0">
            <a:noFill/>
          </a:ln>
        </p:spPr>
      </p:pic>
      <p:pic>
        <p:nvPicPr>
          <p:cNvPr id="871" name="" descr=""/>
          <p:cNvPicPr/>
          <p:nvPr/>
        </p:nvPicPr>
        <p:blipFill>
          <a:blip r:embed="rId3"/>
          <a:stretch/>
        </p:blipFill>
        <p:spPr>
          <a:xfrm>
            <a:off x="685800" y="1371600"/>
            <a:ext cx="2666880" cy="1957320"/>
          </a:xfrm>
          <a:prstGeom prst="rect">
            <a:avLst/>
          </a:prstGeom>
          <a:ln w="0">
            <a:noFill/>
          </a:ln>
        </p:spPr>
      </p:pic>
      <p:pic>
        <p:nvPicPr>
          <p:cNvPr id="872" name="" descr=""/>
          <p:cNvPicPr/>
          <p:nvPr/>
        </p:nvPicPr>
        <p:blipFill>
          <a:blip r:embed="rId4"/>
          <a:stretch/>
        </p:blipFill>
        <p:spPr>
          <a:xfrm>
            <a:off x="1752480" y="3200400"/>
            <a:ext cx="2514600" cy="16765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460080"/>
            <a:ext cx="82296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inter holidays</a:t>
            </a: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457200" y="5029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1000"/>
          </a:bodyPr>
          <a:p>
            <a:pPr marL="240840" indent="-240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What kind of holiday is thi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0840" indent="-240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When do people celebrate i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0840" indent="-240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Do all people celebrate i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0840" indent="-240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How do young people celebrate i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0840" indent="-240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5" name="" descr=""/>
          <p:cNvPicPr/>
          <p:nvPr/>
        </p:nvPicPr>
        <p:blipFill>
          <a:blip r:embed="rId1"/>
          <a:stretch/>
        </p:blipFill>
        <p:spPr>
          <a:xfrm>
            <a:off x="2666880" y="2971800"/>
            <a:ext cx="3353040" cy="2133720"/>
          </a:xfrm>
          <a:prstGeom prst="rect">
            <a:avLst/>
          </a:prstGeom>
          <a:ln w="0">
            <a:noFill/>
          </a:ln>
        </p:spPr>
      </p:pic>
      <p:pic>
        <p:nvPicPr>
          <p:cNvPr id="876" name="" descr=""/>
          <p:cNvPicPr/>
          <p:nvPr/>
        </p:nvPicPr>
        <p:blipFill>
          <a:blip r:embed="rId2"/>
          <a:stretch/>
        </p:blipFill>
        <p:spPr>
          <a:xfrm>
            <a:off x="685800" y="1371600"/>
            <a:ext cx="2971800" cy="2057400"/>
          </a:xfrm>
          <a:prstGeom prst="rect">
            <a:avLst/>
          </a:prstGeom>
          <a:ln w="0">
            <a:noFill/>
          </a:ln>
        </p:spPr>
      </p:pic>
      <p:pic>
        <p:nvPicPr>
          <p:cNvPr id="877" name="" descr=""/>
          <p:cNvPicPr/>
          <p:nvPr/>
        </p:nvPicPr>
        <p:blipFill>
          <a:blip r:embed="rId3"/>
          <a:stretch/>
        </p:blipFill>
        <p:spPr>
          <a:xfrm>
            <a:off x="4876920" y="1371600"/>
            <a:ext cx="3095640" cy="20574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9T17:01:10Z</dcterms:created>
  <dc:creator>Левак</dc:creator>
  <dc:description/>
  <dc:language>en-US</dc:language>
  <cp:lastModifiedBy>User</cp:lastModifiedBy>
  <dcterms:modified xsi:type="dcterms:W3CDTF">2013-05-29T20:19:10Z</dcterms:modified>
  <cp:revision>8</cp:revision>
  <dc:subject/>
  <dc:title>Main holidays in Ukrain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e0c000000000001024140</vt:lpwstr>
  </property>
</Properties>
</file>